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282-956C-4806-8D19-F515350D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5F9-8EDE-446F-95F4-1DAD3D3D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751-9FF4-45D5-8BCE-A5554859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5A74-9AB1-4B93-8522-A3F2FDEB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35AC-6561-4238-A813-60B82A22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37C6-6A5D-452B-87DD-F13E364A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EA23-DC41-449C-9EBC-5A61C2AB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5129-D25F-4404-83E1-59C9F741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4A29-C45F-4123-B642-DD75E2B4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89A2-A500-4AB8-9AE0-374BA4C7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9743-D745-41B7-BC97-E1286763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2CE2-17CF-430C-8EF7-FF92F6CB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0523-76B5-4696-92DA-3EB7BE52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00F5-0EF1-463A-A938-D2DFECF1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FDF9-9F37-41F7-A53D-339A3819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0611-0952-420B-9341-085D6E58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753B-59D2-440F-B74A-F38008B8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496-15BA-4C76-9975-C35B8624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F8E-9679-47AF-869C-70AE156E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542-61F8-4BAC-BDE3-6272CB13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04D-745F-4378-AB14-44977849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323-FC99-4A56-9725-C9D2F403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93E-93CB-4481-9DA7-061D8B58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84E-DC8B-4832-9439-79E954DF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90C7-1185-4469-A928-6DD25CFC0BA3}" type="slidenum">
              <a:rPr b="0" lang="en-A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582F-D914-4A08-99D7-B673A60D4CF1}" type="slidenum">
              <a:rPr b="0" lang="en-A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cruitment, Selection &amp; Ind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nduction &amp; Orienta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Aim of Induction &amp; Orient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23720" y="2115720"/>
            <a:ext cx="54104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capitalise on the new person’s enthusiasm by providing all the information and knowledge they require in order to become an effective asset to your business and its other work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bd06119_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2655720" cy="385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F63-4737-487C-82A7-55CA04CC78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enefits of Induction &amp; Orient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ort ter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nthusiasm, confidence and commitment can be gener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ansition from one place to another is made easi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new recruit adapts to the work environment more quick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ong Ter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duced levels of absenteeis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mprovements in employee mora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ower recruitment costs due to lower turnov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691-D673-4EBA-814D-FDBBA5C1B3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s with Ind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5580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be too formal and focused on one-way commun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o much emphasis on paperwo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levance of information provid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formation overlo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ack of follow u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bs02009_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3325680" cy="329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D2A-591C-4785-AAB1-0356CED0B4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eds of the New Recruit &amp; the Busin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ew Recru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Job and person secur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duction in initial anxiety brought about by joining the organis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need for insight into the way things are d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Busi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productive work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oyalty and commitmen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dherence to legislative requir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tention of new recru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5A4-D952-4340-AF03-F2F66E3E71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ccessful Ind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10800" y="1828800"/>
            <a:ext cx="7332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abby (1990) suggests that we have done a good job of induction if the new recruit: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 relaxed and demonstrating satisfaction with the jo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alises their importance to the work group/te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 showing signs of integr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Knows where to get help, and is asking for 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ppears motivated and/or keen to lear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j0078833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2743200" cy="245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49F3-CAAB-4C96-BD11-139FDDF546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8480" y="685440"/>
            <a:ext cx="88851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signing a Checklis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8769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tems that could be     included in a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planations of organisations aims and purpo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ain of com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rganisational polic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ules &amp; Regula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afety proced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erformance standards and measures of perform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pectations – punctuality, dress, code of condu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43040" y="1371240"/>
            <a:ext cx="48006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tems that could be included in a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Ori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ocation of toilets, lockers, amenities et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troductions to supervisors and co-work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hysical layout and workfl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troduction to a buddy and explanation of their ro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ay proced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6324480"/>
            <a:ext cx="5181480" cy="5335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Handout: Induction checklist for Dept Supervis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B54-41B8-49E7-A187-7BD80792DE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48664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valuate Induction Program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riteria you could use to evaluate your induction program could include but is not limited to the following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es it meet the needs of both parti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es it allow you to meet legislative requirements such as OH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 related information grouped together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es it provide a logical flow of informa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 information is the form of brochures/flyers etc to allow the new recruit to take the information way with them? (remember that nerves usually mean that information goes in one ear and out the othe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N’T forget to ask the new recruit what they felt about the induction!!!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340-5547-438B-A43E-6B5337A860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3520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.G.A – Butchers Pap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7829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are the HR Team for the         organisation known as ‘XXX’ HR Consultants’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organisation has just completed six months of intensive recruitment and subsequent inducti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Your job is now to evaluate the induction process and you have decided to do this by developing a questionnaire that will be distributed to all new recrui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 the next 30 minutes develop a questionnaire that could be used for this purpo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Your team will then present their completed questionnaire to the larger grou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bd07066_" descr=""/>
          <p:cNvPicPr/>
          <p:nvPr/>
        </p:nvPicPr>
        <p:blipFill>
          <a:blip r:embed="rId1"/>
          <a:stretch/>
        </p:blipFill>
        <p:spPr>
          <a:xfrm>
            <a:off x="6400800" y="762120"/>
            <a:ext cx="2743200" cy="21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6B0-131E-4DC8-A60B-CF9D91AFEF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3:52:52Z</dcterms:created>
  <dc:creator>Mr &amp; Mrs McLeod</dc:creator>
  <dc:description/>
  <dc:language>en-US</dc:language>
  <cp:lastModifiedBy>John McDonald</cp:lastModifiedBy>
  <dcterms:modified xsi:type="dcterms:W3CDTF">2001-11-12T21:31:20Z</dcterms:modified>
  <cp:revision>9</cp:revision>
  <dc:subject/>
  <dc:title>Recruitment, Selection &amp; Induction</dc:title>
</cp:coreProperties>
</file>